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044E-DCA0-429F-A2D0-C1471029C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DCDE-0A5C-4FA4-AA89-8568B776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FDA3-B531-4175-BF44-B74295902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559A-43F3-45DF-AD68-64ED749F5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828A-03C7-4E5C-9530-E6FE57F77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10EE5-9137-4099-B7B6-9320F024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8116-DA18-431C-AA3E-AF1C51C0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1EEB-52C9-4103-ABC8-3008942D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9ED6-E59A-4345-BC47-50A69021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720CC-72CE-4126-87CB-4A30D4F8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EFE3-826F-4D80-9A7A-8DFB6635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6037-AE5C-4F15-BBC8-B2C75CAC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97D4-C4A7-4E6A-831E-98DCC95F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FFD7F-27E3-4461-A9CD-CB061066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C681D-E8AA-4398-9A47-3E1A31A5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34BA-7FF1-4E60-A7C1-F67BE0835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8E38-1564-47DE-BB57-CF216D6B3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9263-758F-417D-82FB-96DCE7CE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719E-15D7-40B3-BEEA-84A69346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3D66-D9F4-4BBA-A5FE-D909524E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D9A1-2416-4A28-9EC8-53FA4B49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B233-0FD9-4665-9669-915039F4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B57B-2D49-424C-8159-D2612340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9EFB-CD95-4BCD-8C3C-1D245C06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805d3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7d2f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1422-A8B1-4238-A2E7-1CC5A77B60E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805d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7d2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8F9F-9A49-4D5B-9776-C2218BF9E08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805d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7d2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d2f3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eQ9AC7GH9Sc" TargetMode="External"/><Relationship Id="rId2" Type="http://schemas.openxmlformats.org/officeDocument/2006/relationships/hyperlink" Target="http://www.youtube.com/watch?v=eQ9AC7GH9Sc" TargetMode="External"/><Relationship Id="rId3" Type="http://schemas.openxmlformats.org/officeDocument/2006/relationships/hyperlink" Target="http://www.youtube.com/watch?v=eQ9AC7GH9Sc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720" y="1294920"/>
            <a:ext cx="4114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cc"/>
                </a:solidFill>
                <a:latin typeface="Arial"/>
              </a:rPr>
              <a:t>Life on the Homefron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200400"/>
            <a:ext cx="64767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Quest and Holocaust notes (32.3) due Friday, April 20 – There will be a qui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rld War II Test on Mon, April 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nk you for your hard work on Monday with our sub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iz Corrections opportun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248520" y="304920"/>
            <a:ext cx="2247840" cy="28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Arial"/>
              </a:rPr>
              <a:t>To recap involvement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0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30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=eQ9AC7GH9S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Arial"/>
              </a:rPr>
              <a:t>Toda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3880" y="137160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omefront Readings &amp; Pos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allery Walk/Present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omefront Paragraph – due at the end of class tod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3962520"/>
            <a:ext cx="1800360" cy="2543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rcRect l="0" t="0" r="6411" b="0"/>
          <a:stretch/>
        </p:blipFill>
        <p:spPr>
          <a:xfrm>
            <a:off x="2590920" y="3429000"/>
            <a:ext cx="3200400" cy="3267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286680" y="3809880"/>
            <a:ext cx="224784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Arial"/>
              </a:rPr>
              <a:t>Toda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49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mefront Readings &amp; Pos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allery Walk/Present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mefront Paragraph – due at the end of class tod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orktime – Things due Friday 4/2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805d32"/>
              </a:buClr>
              <a:buSzPct val="75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z Cor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805d32"/>
              </a:buClr>
              <a:buSzPct val="75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.3 Holocaust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805d32"/>
              </a:buClr>
              <a:buSzPct val="75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Quest – Internment (sorry, no labs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20:49:29Z</dcterms:created>
  <dc:creator>MCPASD</dc:creator>
  <dc:description/>
  <dc:language>en-US</dc:language>
  <cp:lastModifiedBy>MCPASD</cp:lastModifiedBy>
  <dcterms:modified xsi:type="dcterms:W3CDTF">2012-04-18T18:49:17Z</dcterms:modified>
  <cp:revision>4</cp:revision>
  <dc:subject/>
  <dc:title>Life on the Homefront</dc:title>
</cp:coreProperties>
</file>